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B8B-4985-4D91-9BD2-D159DED0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703-F8B2-4A3D-913B-A2B9481D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9FF-2B03-412B-A3A3-D0BEB5BD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46D-581D-4C23-9E95-226B034E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741-EF55-447F-8944-A7C7AA6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1E3-2493-48E6-BA49-4141CC03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115-68C3-4F92-B4CA-C40E9F3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F5D-7F8C-42B1-B9A7-0255667D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6E3-30CF-47DC-A06A-681F6FBD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E66-A910-482F-BEF3-0C897F5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2B8-5AE9-4306-AA04-72974E7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827-1560-4635-A5D1-5E6F933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ABD-155E-46ED-90B9-86A146CC989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iag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up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2362320"/>
          <a:ext cx="754380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54380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914400" y="5638680"/>
            <a:ext cx="2362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ygwin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請安裝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Edit diag_shell.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exit diag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#include "./debug.cli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#include "./l2.cli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#include "./xxx.cli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362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505320"/>
            <a:ext cx="23619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arser “diag_shell.c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再依據”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diag_shell.cli” include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的內容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arser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其它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pt comman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l2 table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add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delete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CPU MA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vid value, &lt;0-4095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//unicast MAC address, A:B:C:D:E: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2-table ( add | del ) cpu-mac &lt;UINT:vid&gt; &lt;MACADDR:mac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715000"/>
            <a:ext cx="2514600" cy="380880"/>
          </a:xfrm>
          <a:prstGeom prst="wedgeRectCallout">
            <a:avLst>
              <a:gd name="adj1" fmla="val -59152"/>
              <a:gd name="adj2" fmla="val -12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057400"/>
            <a:ext cx="2514600" cy="380880"/>
          </a:xfrm>
          <a:prstGeom prst="wedgeRectCallout">
            <a:avLst>
              <a:gd name="adj1" fmla="val -91666"/>
              <a:gd name="adj2" fmla="val -64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 help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3505320"/>
            <a:ext cx="3353040" cy="609480"/>
          </a:xfrm>
          <a:prstGeom prst="wedgeRectCallout">
            <a:avLst>
              <a:gd name="adj1" fmla="val -181106"/>
              <a:gd name="adj2" fmla="val 9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就算沒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elp string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也要加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{A | B}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選可不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A |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多選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lt;KEY_WORD: key_word_descrip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輸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Word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TRING'         : 'char *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UINT'              : 'uint32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UINT64'          : 'uint64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INT'                 : 'int32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INT64'             : 'int64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HEX'               : 'uint32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HEX64'           : 'uint64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FLOAT'           : 'double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MACADDR'    : 'cparser_macaddr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IPV4ADDR'    : 'uint32_t 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FILE'               : 'char *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PORT_LIST'  : 'char *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'IPV6ADDR'    : 'char *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//l2 table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//dump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//port list, &lt;0-28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//all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2-table dump { ( &lt;PORT_LIST:port&gt; | all 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105520"/>
            <a:ext cx="1676520" cy="457200"/>
          </a:xfrm>
          <a:prstGeom prst="wedgeRectCallout">
            <a:avLst>
              <a:gd name="adj1" fmla="val 68467"/>
              <a:gd name="adj2" fmla="val -186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選可不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5257800"/>
            <a:ext cx="1676160" cy="457200"/>
          </a:xfrm>
          <a:prstGeom prst="wedgeRectCallout">
            <a:avLst>
              <a:gd name="adj1" fmla="val 15152"/>
              <a:gd name="adj2" fmla="val -210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多選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5715000"/>
            <a:ext cx="1676520" cy="457200"/>
          </a:xfrm>
          <a:prstGeom prst="wedgeRectCallout">
            <a:avLst>
              <a:gd name="adj1" fmla="val -282"/>
              <a:gd name="adj2" fmla="val -318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Ke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comman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dd xxx.cli in sdk\src\app\diag\config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dd command in xxx.c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dd #include "./xxx.cli" in diag_shell.c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un mk_parser.py in sdk\src\app\diag\config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./ mk_parser.py diag_shell.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parser_tree.c and cparser_tree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ve cparser_tree.h to sdk\src\app\diag\include\parser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ove cparser_tree.c to sdk\src\app\diag\src\parser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ng Command B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reate diag_xxx.c in sdk\src\app\diag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 cparser_tree.c you can find out your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/* debug drvini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mmand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parser_tree.c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可以找到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de generate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出來的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parser_result_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cparser_glue_debug_drvinit (cparser_t *pars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</a:rPr>
              <a:t>cparser_cmd_debug_drvinit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(&amp;parser-&gt;cont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eturn CPARSER_O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在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iag_xxx.c implement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ppa</cp:lastModifiedBy>
  <dcterms:modified xsi:type="dcterms:W3CDTF">2011-05-19T10:28:1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